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568-50DE-4FDF-9C73-57BA6E8F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946-A7AB-40C3-80B3-3315D756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B6D-1D3D-4316-99A6-20C2A7B4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F9F-3D1E-4950-A0AD-10DA8897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E849D-BC87-4667-82CD-C4EEC6DA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F392E-6291-48F4-B697-62607406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930A4-06FC-458F-B30C-4FFE664E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3DD65-EBEB-4175-9C35-59A715D4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30A96-4E19-4DF9-A065-6E8054D0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413E9-16EC-4C90-B6DD-17C4BDCE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0EFDE-CBEC-4D15-AE88-983E51B7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40B-ABAE-48B2-A23F-5CCCC3B9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A8F3A-B58D-4BB5-8EAC-DC63A39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91F2A-D4F9-428A-8C94-7BD4AFD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375FF-B40E-47EE-865B-24B12D42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C73D1-C161-4013-8D5A-3FABAC3D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9F248-FC4F-42EC-ADD5-135A5EA4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3492-6497-43FA-9E6A-1E1D26B8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C6E3-DE6C-4BB8-BA5E-E1307140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8DC3-ADF1-44E8-AE5F-773F42BC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D069-7F76-4351-9D4D-1C698E40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74E2-9B1F-4587-B5CB-FE2D5B0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A79-AEDA-4D88-8117-3E7FB0DA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C4F2-DEF3-4981-A235-988ED90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4F9D-83EF-419A-8DE1-704E62B4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DFFB-1AF0-4183-97CB-D66DA365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E68F-35C3-48A7-95DB-9397AE6B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73D6-C790-4AFF-BE6D-7D7BCDE2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E1CD-B532-49B4-9E27-3B3CE969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94AD-1119-4C51-8D68-74CC7985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EA08C-E102-4ED8-8A64-66EEF5B1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C9ABF-1972-41AC-AAEB-1B4B8B6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D24FB-D34C-45B4-A533-702F7A64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10A-DC8B-4DC1-9CF4-A3E0BF83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FFFCD-0528-4306-9E5F-34607074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9766F-9226-4CD3-81BB-06C46DAD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833C0-354C-48BE-8993-01D4AF7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2BC21-3F52-4090-846B-8D3C6D6B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55E49-6DCC-450B-A57B-AE9630D6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34E2E-7BCE-4159-9EC5-FDD22654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333D2-F00C-4D67-8B0D-9F2BADDC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A7FA5-07EB-4DD5-A9A3-C1DAD7B3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F4A93-23B3-466A-80E1-AC1A3926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FBB90-B247-4413-9322-6E5FF157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292-5921-4E62-A069-911047D4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BF571-24A1-4BBF-8A61-7C8A1411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33300-2277-4037-8986-CFCD4980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47887-1C04-426B-8910-39C9F962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6EEE7-8CE0-4F36-B1F0-CDD4345B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5D709-42E8-4777-8B55-1FAD7EB2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8A5C4-583B-4F30-9BB2-931342CE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190CC-E0AB-44BF-90BD-79875D98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C21CC-38F7-4883-9C37-075894E7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50036-B2A9-495E-8608-EEC7FA44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DF6A6-7976-4A48-8AA6-52C33AA2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C16-DB23-48D3-8621-2ED5FB11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C6667-5B01-4CB0-9A74-BE05A81A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B395E-1224-4357-A47B-C531FFB7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A92F0-C1A6-4081-8AC4-64A65922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022E3-B5BC-48F3-BBA3-D6E75A46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F5971-B90F-4AD9-9C27-18F31C49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2839E-133D-4C3A-B311-1A2F58AC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0002E-75AF-43DB-BD3A-1B864C8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D3077-4E56-439E-B4BE-171FDDB8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9C455-122C-4C47-B129-FA0AA09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2A532C-B175-494F-94F6-D8EF8EEB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DA3-D2F1-4956-8FE0-4E5D9DB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AB2A5-EE89-4E0C-ACB3-93206527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B87B3-B645-428A-A69C-550CC136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C010F-B945-40DC-B14C-A6B15D59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E22-C8F3-4E3A-830E-28254F38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EDE-471A-46E3-B7E1-63D3B30C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F7FC-DD09-4E1A-AE30-CD090A10D390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6E4F-2F7B-4E6A-A753-844FD51E9CCF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F3C5-F07C-49DC-873B-F36420887031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D374-0DED-426D-A985-C055D7DF74A1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3468-CC9D-44D3-BE05-09825FB24EDD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4429-44DD-4ED1-89F3-E7CCA2538312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3" name="Title 1"/>
          <p:cNvSpPr/>
          <p:nvPr/>
        </p:nvSpPr>
        <p:spPr>
          <a:xfrm>
            <a:off x="457200" y="4286160"/>
            <a:ext cx="83059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NZ" sz="2400" spc="-1" strike="noStrike">
                <a:solidFill>
                  <a:srgbClr val="000000"/>
                </a:solidFill>
                <a:latin typeface="Constantia"/>
              </a:rPr>
              <a:t>eHeritage Dunedin is a virtual 3D walkthrough of Dunedin, allowing users to view the city at various stages of its history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1" descr=""/>
          <p:cNvPicPr/>
          <p:nvPr/>
        </p:nvPicPr>
        <p:blipFill>
          <a:blip r:embed="rId1"/>
          <a:stretch/>
        </p:blipFill>
        <p:spPr>
          <a:xfrm>
            <a:off x="438120" y="1414440"/>
            <a:ext cx="8358120" cy="4876920"/>
          </a:xfrm>
          <a:prstGeom prst="rect">
            <a:avLst/>
          </a:prstGeom>
          <a:ln w="0">
            <a:noFill/>
          </a:ln>
        </p:spPr>
      </p:pic>
      <p:pic>
        <p:nvPicPr>
          <p:cNvPr id="255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Database scripts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Building GIS data – obtained from DCC or input using ArcG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Base SketchUp model (untextured) finished for 200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2"/>
          <a:srcRect l="26339" t="31435" r="25005" b="20004"/>
          <a:stretch/>
        </p:blipFill>
        <p:spPr>
          <a:xfrm>
            <a:off x="1066680" y="3929040"/>
            <a:ext cx="2862360" cy="1785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3"/>
          <a:srcRect l="26339" t="31435" r="25005" b="20004"/>
          <a:stretch/>
        </p:blipFill>
        <p:spPr>
          <a:xfrm>
            <a:off x="5000760" y="3929040"/>
            <a:ext cx="2862000" cy="1785960"/>
          </a:xfrm>
          <a:prstGeom prst="rect">
            <a:avLst/>
          </a:prstGeom>
          <a:ln w="0">
            <a:noFill/>
          </a:ln>
        </p:spPr>
      </p:pic>
      <p:sp>
        <p:nvSpPr>
          <p:cNvPr id="260" name="Right Arrow 5"/>
          <p:cNvSpPr/>
          <p:nvPr/>
        </p:nvSpPr>
        <p:spPr>
          <a:xfrm>
            <a:off x="4143240" y="4643280"/>
            <a:ext cx="64296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1135080" y="57862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Century"/>
              </a:rPr>
              <a:t>ArcG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5056920" y="57862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Century"/>
              </a:rPr>
              <a:t>Sketch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25/09/09 – get in touch with Rob Garrett re:  DCC GIS da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HOLIDAY WORK – Get ArcGIS functional, to interpret GIS da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16/10/09 – ArcGIS to SketchUp da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23/10/09 – SketchUp base model finished (for 2009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30/10/09 – Database scripts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06/11/11 – Database popul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3D modelling continuously throughout this peri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entury"/>
              </a:rPr>
              <a:t>Third Iteration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Database to model communication – 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Implement other years (maybe just the three periods they want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User interface implemen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3D building text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User testing – navig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2:35:23Z</dcterms:created>
  <dc:creator>moskaac1</dc:creator>
  <dc:description/>
  <dc:language>en-US</dc:language>
  <cp:lastModifiedBy>MOSKAAC1</cp:lastModifiedBy>
  <dcterms:modified xsi:type="dcterms:W3CDTF">2009-09-21T22:04:41Z</dcterms:modified>
  <cp:revision>12</cp:revision>
  <dc:subject/>
  <dc:title>eHeritage Dunedin 2nd Iteration Presentation</dc:title>
</cp:coreProperties>
</file>